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.jpeg" ContentType="image/jpeg"/>
  <Override PartName="/ppt/media/chomp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93760" y="703080"/>
            <a:ext cx="46893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EC69-EA51-44B0-BEA1-D827CBF0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E39-9362-4A5A-A750-795087ED00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763-0BD9-4026-9014-756901193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47E-CE26-487B-8D52-9DFB31701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9EE-3B9F-426C-A35B-F126D48F1B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F3D2-085B-4D7B-9855-0F4A5BD590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E067-EE75-4FE2-AAFC-CB8B1D5AA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cho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9FC-531F-421D-99DC-9DE7C498C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F77-43AC-4BF6-8F6D-91EFDE364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887-9032-4F11-BB09-ACC7DDAC6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435-AAD7-4439-A942-11FA83F7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BD3-0768-4522-9053-42B68E66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58F-1AF8-4113-909C-FEEAE69B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60D-128B-4764-9256-B47F6FD0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CC9-9825-4AD3-B431-47A6E84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40CF-5A1C-45C4-9CCB-7928D897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E88-11FA-4E41-949D-2183FBD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A0B-1E43-4013-9382-54BB3EDF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C154-275D-4941-AB61-6A62A3CF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B86-ED10-4345-A13C-8D893C0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1AB-CB96-45C2-AFC7-12B8C98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96A9-F8B9-4222-95E1-013E1138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C2F-5C74-4F8C-99CF-D9E0741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3A0D-BCF2-4075-93F5-ACBDDB2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35D-B15F-4C69-8891-699FAC4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7B9-F1DC-44F2-AAC2-613D6D75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6D70-5265-424E-A815-5F4EA2B4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575-7FEF-4D6F-B115-E642A3A8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A80-3F56-4AD0-816E-2A9EC1F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B6E-105B-4AA6-9BC9-6783F547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DAC-4924-4727-BE8F-741CD9C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6DE-70EB-42FF-B606-E781803D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620-E767-445A-8FB8-CA5F27C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802-A6A9-49EA-AFC3-1AF1A14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0292-AB04-425E-A022-866D27F159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7BA-E132-494D-9835-9EEC0B23AF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076960" cy="17827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m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d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Text Box 1038"/>
          <p:cNvSpPr/>
          <p:nvPr/>
        </p:nvSpPr>
        <p:spPr>
          <a:xfrm>
            <a:off x="914400" y="22860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noAutofit/>
          </a:bodyPr>
          <a:p>
            <a:pPr marL="122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shoot02b_edit.JPG"/>
          <p:cNvPicPr/>
          <p:nvPr/>
        </p:nvPicPr>
        <p:blipFill>
          <a:blip r:embed="rId1"/>
          <a:stretch/>
        </p:blipFill>
        <p:spPr>
          <a:xfrm>
            <a:off x="6019920" y="3505320"/>
            <a:ext cx="96336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Rounded Rectangular Callout 6"/>
          <p:cNvSpPr/>
          <p:nvPr/>
        </p:nvSpPr>
        <p:spPr>
          <a:xfrm>
            <a:off x="838080" y="4495680"/>
            <a:ext cx="2743200" cy="2133720"/>
          </a:xfrm>
          <a:prstGeom prst="wedgeRoundRectCallout">
            <a:avLst>
              <a:gd name="adj1" fmla="val 140388"/>
              <a:gd name="adj2" fmla="val -7448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NBOY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914400" y="2133720"/>
            <a:ext cx="7315200" cy="12189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marL="122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, 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b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micol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shoot03_edit.jpg"/>
          <p:cNvPicPr/>
          <p:nvPr/>
        </p:nvPicPr>
        <p:blipFill>
          <a:blip r:embed="rId1"/>
          <a:stretch/>
        </p:blipFill>
        <p:spPr>
          <a:xfrm>
            <a:off x="1905120" y="373392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6"/>
          <p:cNvSpPr/>
          <p:nvPr/>
        </p:nvSpPr>
        <p:spPr>
          <a:xfrm>
            <a:off x="4876920" y="3962520"/>
            <a:ext cx="2743200" cy="2133360"/>
          </a:xfrm>
          <a:prstGeom prst="wedgeRoundRectCallout">
            <a:avLst>
              <a:gd name="adj1" fmla="val -125625"/>
              <a:gd name="adj2" fmla="val -426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emicol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aring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3  to 4 times per essay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; unfortunately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6002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ubordinate conjunc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shoot02b_edit.JPG"/>
          <p:cNvPicPr/>
          <p:nvPr/>
        </p:nvPicPr>
        <p:blipFill>
          <a:blip r:embed="rId1"/>
          <a:stretch/>
        </p:blipFill>
        <p:spPr>
          <a:xfrm>
            <a:off x="6400800" y="3733920"/>
            <a:ext cx="988920" cy="2819160"/>
          </a:xfrm>
          <a:prstGeom prst="rect">
            <a:avLst/>
          </a:prstGeom>
          <a:ln w="0">
            <a:noFill/>
          </a:ln>
        </p:spPr>
      </p:pic>
      <p:sp>
        <p:nvSpPr>
          <p:cNvPr id="186" name="Rounded Rectangular Callout 8"/>
          <p:cNvSpPr/>
          <p:nvPr/>
        </p:nvSpPr>
        <p:spPr>
          <a:xfrm>
            <a:off x="1981080" y="3733920"/>
            <a:ext cx="2362320" cy="2133360"/>
          </a:xfrm>
          <a:prstGeom prst="wedgeRoundRectCallout">
            <a:avLst>
              <a:gd name="adj1" fmla="val 140171"/>
              <a:gd name="adj2" fmla="val -287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wo clauses to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ncomp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f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are the subordinate conjunctio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5800" y="1981080"/>
            <a:ext cx="3809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, even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64832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[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lied], so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, when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wherever, whe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2514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member 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general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rules 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ubordinating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ne of the clauses in the erro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38080" y="3429000"/>
            <a:ext cx="3733920" cy="6858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483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791320" y="3429000"/>
            <a:ext cx="2514600" cy="6858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838080" y="4419720"/>
            <a:ext cx="2438640" cy="609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2767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Ø 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72000" y="4419720"/>
            <a:ext cx="3733920" cy="609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57200" y="1905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Alth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re sank a perfect basket from half cour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re’s our sample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57200" y="3200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ball_edit.JPG"/>
          <p:cNvPicPr/>
          <p:nvPr/>
        </p:nvPicPr>
        <p:blipFill>
          <a:blip r:embed="rId1"/>
          <a:stretch/>
        </p:blipFill>
        <p:spPr>
          <a:xfrm>
            <a:off x="2386080" y="4038480"/>
            <a:ext cx="113976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ular Callout 5"/>
          <p:cNvSpPr/>
          <p:nvPr/>
        </p:nvSpPr>
        <p:spPr>
          <a:xfrm>
            <a:off x="5334120" y="4343400"/>
            <a:ext cx="3276360" cy="2286000"/>
          </a:xfrm>
          <a:prstGeom prst="wedgeRoundRectCallout">
            <a:avLst>
              <a:gd name="adj1" fmla="val -118685"/>
              <a:gd name="adj2" fmla="val -4621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Drop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comma after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cou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like a championship game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turnov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ounded Rectangular Callout 6"/>
          <p:cNvSpPr/>
          <p:nvPr/>
        </p:nvSpPr>
        <p:spPr>
          <a:xfrm>
            <a:off x="5334120" y="4343400"/>
            <a:ext cx="3276360" cy="2286000"/>
          </a:xfrm>
          <a:prstGeom prst="wedgeRoundRectCallout">
            <a:avLst>
              <a:gd name="adj1" fmla="val -117990"/>
              <a:gd name="adj2" fmla="val -4549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Ad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unnecess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a is like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grandstan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a teammate is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op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yourturn_edit.jpg"/>
          <p:cNvPicPr/>
          <p:nvPr/>
        </p:nvPicPr>
        <p:blipFill>
          <a:blip r:embed="rId1"/>
          <a:stretch/>
        </p:blipFill>
        <p:spPr>
          <a:xfrm>
            <a:off x="5943600" y="3195720"/>
            <a:ext cx="1295280" cy="3662280"/>
          </a:xfrm>
          <a:prstGeom prst="rect">
            <a:avLst/>
          </a:prstGeom>
          <a:ln w="0">
            <a:noFill/>
          </a:ln>
        </p:spPr>
      </p:pic>
      <p:sp>
        <p:nvSpPr>
          <p:cNvPr id="207" name="Rounded Rectangular Callout 8"/>
          <p:cNvSpPr/>
          <p:nvPr/>
        </p:nvSpPr>
        <p:spPr>
          <a:xfrm>
            <a:off x="3048120" y="4191120"/>
            <a:ext cx="1676160" cy="2133360"/>
          </a:xfrm>
          <a:prstGeom prst="wedgeRoundRectCallout">
            <a:avLst>
              <a:gd name="adj1" fmla="val 147620"/>
              <a:gd name="adj2" fmla="val -5448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a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451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951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drooled while we ate slices of ho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 but the cat feigned nonchalance even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ooled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 ate slices of h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a b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cat feig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onchalance ev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ooled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 ate slices of h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izza, b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cat feig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onchalance ev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5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screamed, her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reamed, 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reamed, 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dinner, Elizabeth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 and wiped spots off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. While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nner, Elizab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easonings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ped spots of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lasses.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nner, Elizab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easonings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ped spots of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ass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ragments, Comma Splices, and Fused Senten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Picture 6" descr="sitting_edit.jpg"/>
          <p:cNvPicPr/>
          <p:nvPr/>
        </p:nvPicPr>
        <p:blipFill>
          <a:blip r:embed="rId1"/>
          <a:stretch/>
        </p:blipFill>
        <p:spPr>
          <a:xfrm>
            <a:off x="2362320" y="2709720"/>
            <a:ext cx="4343400" cy="414828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ular Callout 7"/>
          <p:cNvSpPr/>
          <p:nvPr/>
        </p:nvSpPr>
        <p:spPr>
          <a:xfrm>
            <a:off x="304920" y="2895480"/>
            <a:ext cx="2438280" cy="1828800"/>
          </a:xfrm>
          <a:prstGeom prst="wedgeRoundRectCallout">
            <a:avLst>
              <a:gd name="adj1" fmla="val 110129"/>
              <a:gd name="adj2" fmla="val 157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know if I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oo litt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entence 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477120" y="2895480"/>
            <a:ext cx="2209680" cy="1600200"/>
          </a:xfrm>
          <a:prstGeom prst="wedgeRoundRectCallout">
            <a:avLst>
              <a:gd name="adj1" fmla="val -134851"/>
              <a:gd name="adj2" fmla="val 2735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ow can I tell if I hav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oo mu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3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patio. When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tio. W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tio. W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 Roseanne, however, had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refrigerator as they raced through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eshment Rosean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wever, h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igerator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y raced throu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reshment. Rosean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wever, h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igerator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y raced throu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5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Melody but the 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lody but the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lody but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sun, ice cream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 and coated Randall’s fingers, his tongu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un, ice 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ne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ated Randall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gers,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ng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457200" y="1676520"/>
            <a:ext cx="8305920" cy="4876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un, ice 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ne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ated Randall’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ingers, for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ng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yell. Because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ell. Beca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ell. Beca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Emily, he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driveway and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relationship or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mily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veway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ationship 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mily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veway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ationship 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hours; he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urs;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urs;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1" name="Rounded Rectangular Callout 4"/>
          <p:cNvSpPr/>
          <p:nvPr/>
        </p:nvSpPr>
        <p:spPr>
          <a:xfrm>
            <a:off x="4495680" y="1828800"/>
            <a:ext cx="4267440" cy="3581280"/>
          </a:xfrm>
          <a:prstGeom prst="wedgeRoundRectCallout">
            <a:avLst>
              <a:gd name="adj1" fmla="val -83449"/>
              <a:gd name="adj2" fmla="val 261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 spl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used sent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mileman.jpg"/>
          <p:cNvPicPr/>
          <p:nvPr/>
        </p:nvPicPr>
        <p:blipFill>
          <a:blip r:embed="rId1"/>
          <a:stretch/>
        </p:blipFill>
        <p:spPr>
          <a:xfrm>
            <a:off x="990720" y="1523880"/>
            <a:ext cx="1849320" cy="5079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181480" y="838080"/>
            <a:ext cx="3353040" cy="3505320"/>
          </a:xfrm>
          <a:prstGeom prst="wedgeRoundRectCallout">
            <a:avLst>
              <a:gd name="adj1" fmla="val -134476"/>
              <a:gd name="adj2" fmla="val -149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avoid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entence 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 spl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used sent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ular Callout 3"/>
          <p:cNvSpPr/>
          <p:nvPr/>
        </p:nvSpPr>
        <p:spPr>
          <a:xfrm>
            <a:off x="5181480" y="838080"/>
            <a:ext cx="3353040" cy="3505320"/>
          </a:xfrm>
          <a:prstGeom prst="wedgeRoundRectCallout">
            <a:avLst>
              <a:gd name="adj1" fmla="val -134476"/>
              <a:gd name="adj2" fmla="val -149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will learn to recognize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omplete sentenc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employ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appropriate punctu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use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subordina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oordin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fragment, comma splice, and/or fused sentenc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izzeria, Jolene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table, hot chees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 over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. 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eria, Jol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able, h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e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scaded 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.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eria, Jol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able while h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e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scaded 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.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7" descr="blueman.JPG"/>
          <p:cNvPicPr/>
          <p:nvPr/>
        </p:nvPicPr>
        <p:blipFill>
          <a:blip r:embed="rId1"/>
          <a:stretch/>
        </p:blipFill>
        <p:spPr>
          <a:xfrm>
            <a:off x="7848720" y="3657600"/>
            <a:ext cx="1020600" cy="3129120"/>
          </a:xfrm>
          <a:prstGeom prst="rect">
            <a:avLst/>
          </a:prstGeom>
          <a:ln w="0">
            <a:noFill/>
          </a:ln>
        </p:spPr>
      </p:pic>
      <p:sp>
        <p:nvSpPr>
          <p:cNvPr id="144" name="Rounded Rectangular Callout 18"/>
          <p:cNvSpPr/>
          <p:nvPr/>
        </p:nvSpPr>
        <p:spPr>
          <a:xfrm>
            <a:off x="4191120" y="3886200"/>
            <a:ext cx="2209680" cy="1676520"/>
          </a:xfrm>
          <a:prstGeom prst="wedgeRoundRectCallout">
            <a:avLst>
              <a:gd name="adj1" fmla="val 123398"/>
              <a:gd name="adj2" fmla="val -404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unctuation (or lack of it)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ounded Rectangular Callout 19"/>
          <p:cNvSpPr/>
          <p:nvPr/>
        </p:nvSpPr>
        <p:spPr>
          <a:xfrm>
            <a:off x="3733920" y="3886200"/>
            <a:ext cx="2895480" cy="1676520"/>
          </a:xfrm>
          <a:prstGeom prst="wedgeRoundRectCallout">
            <a:avLst>
              <a:gd name="adj1" fmla="val 97226"/>
              <a:gd name="adj2" fmla="val -395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 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h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a comma splice, an error that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7"/>
          <p:cNvSpPr/>
          <p:nvPr/>
        </p:nvSpPr>
        <p:spPr>
          <a:xfrm>
            <a:off x="914400" y="21337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 practiced jump shots to impress Coach Nel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entence must have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ubjec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complete though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Picture 7" descr="invite_edit.JPG"/>
          <p:cNvPicPr/>
          <p:nvPr/>
        </p:nvPicPr>
        <p:blipFill>
          <a:blip r:embed="rId1"/>
          <a:stretch/>
        </p:blipFill>
        <p:spPr>
          <a:xfrm>
            <a:off x="1419120" y="3124080"/>
            <a:ext cx="190836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ular Callout 4"/>
          <p:cNvSpPr/>
          <p:nvPr/>
        </p:nvSpPr>
        <p:spPr>
          <a:xfrm>
            <a:off x="5029200" y="4191120"/>
            <a:ext cx="3429000" cy="2133360"/>
          </a:xfrm>
          <a:prstGeom prst="wedgeRoundRectCallout">
            <a:avLst>
              <a:gd name="adj1" fmla="val -108444"/>
              <a:gd name="adj2" fmla="val -68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d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ubject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actic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erb, and the thought 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you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entenc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11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1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inn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ogniz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fragment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you see on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Rectangle 1027"/>
          <p:cNvSpPr/>
          <p:nvPr/>
        </p:nvSpPr>
        <p:spPr>
          <a:xfrm>
            <a:off x="1066680" y="2209680"/>
            <a:ext cx="701064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spin_edit.jpg"/>
          <p:cNvPicPr/>
          <p:nvPr/>
        </p:nvPicPr>
        <p:blipFill>
          <a:blip r:embed="rId1"/>
          <a:stretch/>
        </p:blipFill>
        <p:spPr>
          <a:xfrm>
            <a:off x="6248520" y="2725560"/>
            <a:ext cx="1431720" cy="4132440"/>
          </a:xfrm>
          <a:prstGeom prst="rect">
            <a:avLst/>
          </a:prstGeom>
          <a:ln w="0">
            <a:noFill/>
          </a:ln>
        </p:spPr>
      </p:pic>
      <p:sp>
        <p:nvSpPr>
          <p:cNvPr id="156" name="Rounded Rectangular Callout 4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212"/>
              <a:gd name="adj2" fmla="val -4695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i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≠ a verb, so you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ragm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ounded Rectangular Callout 9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2564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re’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, so you still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ra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ular Callout 11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583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ik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thought i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ular Callout 13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583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nal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, a verb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thou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5541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ogniz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fused sentences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ma splic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Text Box 1038"/>
          <p:cNvSpPr/>
          <p:nvPr/>
        </p:nvSpPr>
        <p:spPr>
          <a:xfrm>
            <a:off x="533520" y="1981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533520" y="3200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,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1" descr="sprawl_edit.jpg"/>
          <p:cNvPicPr/>
          <p:nvPr/>
        </p:nvPicPr>
        <p:blipFill>
          <a:blip r:embed="rId1"/>
          <a:srcRect l="0" t="0" r="0" b="3053"/>
          <a:stretch/>
        </p:blipFill>
        <p:spPr>
          <a:xfrm>
            <a:off x="3886200" y="4435560"/>
            <a:ext cx="457200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ular Callout 9"/>
          <p:cNvSpPr/>
          <p:nvPr/>
        </p:nvSpPr>
        <p:spPr>
          <a:xfrm>
            <a:off x="1066680" y="4495680"/>
            <a:ext cx="2590920" cy="1905120"/>
          </a:xfrm>
          <a:prstGeom prst="wedgeRoundRectCallout">
            <a:avLst>
              <a:gd name="adj1" fmla="val 184689"/>
              <a:gd name="adj2" fmla="val -291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anno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un together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tences with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n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nctuation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ular Callout 6"/>
          <p:cNvSpPr/>
          <p:nvPr/>
        </p:nvSpPr>
        <p:spPr>
          <a:xfrm>
            <a:off x="1066680" y="4495680"/>
            <a:ext cx="2590920" cy="1905120"/>
          </a:xfrm>
          <a:prstGeom prst="wedgeRoundRectCallout">
            <a:avLst>
              <a:gd name="adj1" fmla="val 185277"/>
              <a:gd name="adj2" fmla="val -2998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 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38"/>
          <p:cNvSpPr/>
          <p:nvPr/>
        </p:nvSpPr>
        <p:spPr>
          <a:xfrm>
            <a:off x="533520" y="1981080"/>
            <a:ext cx="8076960" cy="1295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 unfortunat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38"/>
          <p:cNvSpPr/>
          <p:nvPr/>
        </p:nvSpPr>
        <p:spPr>
          <a:xfrm>
            <a:off x="533520" y="3200400"/>
            <a:ext cx="807696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, unfortunat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7827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erio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d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apital l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Text Box 1038"/>
          <p:cNvSpPr/>
          <p:nvPr/>
        </p:nvSpPr>
        <p:spPr>
          <a:xfrm>
            <a:off x="533520" y="22860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9" descr="shoot_edit.jpg"/>
          <p:cNvPicPr/>
          <p:nvPr/>
        </p:nvPicPr>
        <p:blipFill>
          <a:blip r:embed="rId1"/>
          <a:stretch/>
        </p:blipFill>
        <p:spPr>
          <a:xfrm>
            <a:off x="2590920" y="3733920"/>
            <a:ext cx="1150920" cy="2743200"/>
          </a:xfrm>
          <a:prstGeom prst="rect">
            <a:avLst/>
          </a:prstGeom>
          <a:ln w="0">
            <a:noFill/>
          </a:ln>
        </p:spPr>
      </p:pic>
      <p:sp>
        <p:nvSpPr>
          <p:cNvPr id="171" name="Rounded Rectangular Callout 12"/>
          <p:cNvSpPr/>
          <p:nvPr/>
        </p:nvSpPr>
        <p:spPr>
          <a:xfrm>
            <a:off x="6095880" y="3581280"/>
            <a:ext cx="1752840" cy="2133720"/>
          </a:xfrm>
          <a:prstGeom prst="wedgeRoundRectCallout">
            <a:avLst>
              <a:gd name="adj1" fmla="val -181398"/>
              <a:gd name="adj2" fmla="val -187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eri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38"/>
          <p:cNvSpPr/>
          <p:nvPr/>
        </p:nvSpPr>
        <p:spPr>
          <a:xfrm>
            <a:off x="533520" y="2286000"/>
            <a:ext cx="807696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. Unfortunately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sentence fragment comma splice fused sentence run-on grammar Grammar Bytes! Robin L. Simmons</cp:keywords>
  <dc:language>en-US</dc:language>
  <cp:lastModifiedBy>RSimmons</cp:lastModifiedBy>
  <dcterms:modified xsi:type="dcterms:W3CDTF">2010-01-04T18:22:04Z</dcterms:modified>
  <cp:revision>494</cp:revision>
  <dc:subject/>
  <dc:title>Fragments, Comma Splices, and Fused Sentences</dc:title>
</cp:coreProperties>
</file>